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5.png" ContentType="image/png"/>
  <Override PartName="/ppt/media/image26.png" ContentType="image/png"/>
  <Override PartName="/ppt/media/image23.gif" ContentType="image/gif"/>
  <Override PartName="/ppt/media/image16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24.gif" ContentType="image/gif"/>
  <Override PartName="/ppt/media/image14.png" ContentType="image/png"/>
  <Override PartName="/ppt/media/image1.jpeg" ContentType="image/jpeg"/>
  <Override PartName="/ppt/media/image10.png" ContentType="image/png"/>
  <Override PartName="/ppt/media/image47.png" ContentType="image/png"/>
  <Override PartName="/ppt/media/image2.jpeg" ContentType="image/jpeg"/>
  <Override PartName="/ppt/media/image20.png" ContentType="image/png"/>
  <Override PartName="/ppt/media/image15.png" ContentType="image/png"/>
  <Override PartName="/ppt/media/image3.jpeg" ContentType="image/jpeg"/>
  <Override PartName="/ppt/media/image30.png" ContentType="image/png"/>
  <Override PartName="/ppt/media/image4.png" ContentType="image/png"/>
  <Override PartName="/ppt/media/image34.png" ContentType="image/png"/>
  <Override PartName="/ppt/media/image36.png" ContentType="image/png"/>
  <Override PartName="/ppt/media/image37.png" ContentType="image/png"/>
  <Override PartName="/ppt/media/image40.png" ContentType="image/png"/>
  <Override PartName="/ppt/media/image41.png" ContentType="image/png"/>
  <Override PartName="/ppt/media/image39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3.png" ContentType="image/png"/>
  <Override PartName="/ppt/media/image45.png" ContentType="image/png"/>
  <Override PartName="/ppt/media/image27.jpeg" ContentType="image/jpeg"/>
  <Override PartName="/ppt/media/image46.png" ContentType="image/png"/>
  <Override PartName="/ppt/media/image50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32.png" ContentType="image/png"/>
  <Override PartName="/ppt/media/image31.png" ContentType="image/png"/>
  <Override PartName="/ppt/media/image49.png" ContentType="image/png"/>
  <Override PartName="/ppt/media/image12.png" ContentType="image/png"/>
  <Override PartName="/ppt/media/image6.jpeg" ContentType="image/jpeg"/>
  <Override PartName="/ppt/media/image18.png" ContentType="image/png"/>
  <Override PartName="/ppt/media/image28.png" ContentType="image/png"/>
  <Override PartName="/ppt/media/image7.jpeg" ContentType="image/jpeg"/>
  <Override PartName="/ppt/media/image38.png" ContentType="image/png"/>
  <Override PartName="/ppt/media/image8.jpeg" ContentType="image/jpeg"/>
  <Override PartName="/ppt/media/image5.png" ContentType="image/png"/>
  <Override PartName="/ppt/media/image3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9771063" cy="14295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9770400" cy="1429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dt" idx="2"/>
          </p:nvPr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lstStyle>
            <a:lvl1pPr marL="216000" indent="0" algn="r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  <a:defRPr b="0" lang="de-DE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ldImg"/>
          </p:nvPr>
        </p:nvSpPr>
        <p:spPr>
          <a:xfrm>
            <a:off x="1310760" y="1073160"/>
            <a:ext cx="7148520" cy="5361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body"/>
          </p:nvPr>
        </p:nvSpPr>
        <p:spPr>
          <a:xfrm>
            <a:off x="996480" y="6791400"/>
            <a:ext cx="7750440" cy="643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3"/>
          </p:nvPr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lstStyle>
            <a:lvl1pPr marL="216000" indent="0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  <a:defRPr b="0" lang="de-DE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4"/>
          </p:nvPr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lstStyle>
            <a:lvl1pPr marL="216000" indent="0" algn="r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  <a:defRPr b="0" lang="de-DE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1B148E6A-0173-4371-834D-32B7E2885D95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4045C2FF-01DE-49BB-B0A4-853CE579F22F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77760" y="7361280"/>
            <a:ext cx="7817040" cy="6432480"/>
          </a:xfrm>
          <a:prstGeom prst="rect">
            <a:avLst/>
          </a:prstGeom>
          <a:noFill/>
          <a:ln w="0">
            <a:noFill/>
          </a:ln>
        </p:spPr>
        <p:txBody>
          <a:bodyPr lIns="132840" rIns="132840" tIns="66240" bIns="66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formation are available under folder “AD Produc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 is child’s play thanks to the attractive accessories, also excellent ARPU-dri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108080" y="6610320"/>
            <a:ext cx="3820680" cy="504000"/>
            <a:chOff x="1108080" y="6610320"/>
            <a:chExt cx="3820680" cy="504000"/>
          </a:xfrm>
        </p:grpSpPr>
        <p:sp>
          <p:nvSpPr>
            <p:cNvPr id="388" name=""/>
            <p:cNvSpPr/>
            <p:nvPr/>
          </p:nvSpPr>
          <p:spPr>
            <a:xfrm>
              <a:off x="1108080" y="6610320"/>
              <a:ext cx="38206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31400" tIns="0" bIns="65520" anchor="t">
              <a:spAutoFit/>
            </a:bodyPr>
            <a:p>
              <a:pPr algn="ctr">
                <a:lnSpc>
                  <a:spcPts val="3450"/>
                </a:lnSpc>
                <a:spcBef>
                  <a:spcPts val="1437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108080" y="661032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108080" y="708156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4F22459D-81F7-4894-9688-3CDAD874DBF7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977760" y="7361280"/>
            <a:ext cx="7817040" cy="6432480"/>
          </a:xfrm>
          <a:prstGeom prst="rect">
            <a:avLst/>
          </a:prstGeom>
          <a:noFill/>
          <a:ln w="0">
            <a:noFill/>
          </a:ln>
        </p:spPr>
        <p:txBody>
          <a:bodyPr lIns="132840" rIns="132840" tIns="66240" bIns="66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re information are available under folder “AD Product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 is child’s play thanks to the attractive accessories, also excellent ARPU-dri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1108080" y="6610320"/>
            <a:ext cx="3820680" cy="504000"/>
            <a:chOff x="1108080" y="6610320"/>
            <a:chExt cx="3820680" cy="504000"/>
          </a:xfrm>
        </p:grpSpPr>
        <p:sp>
          <p:nvSpPr>
            <p:cNvPr id="397" name=""/>
            <p:cNvSpPr/>
            <p:nvPr/>
          </p:nvSpPr>
          <p:spPr>
            <a:xfrm>
              <a:off x="1108080" y="6610320"/>
              <a:ext cx="38206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31400" tIns="0" bIns="65520" anchor="t">
              <a:spAutoFit/>
            </a:bodyPr>
            <a:p>
              <a:pPr algn="ctr">
                <a:lnSpc>
                  <a:spcPts val="3450"/>
                </a:lnSpc>
                <a:spcBef>
                  <a:spcPts val="1437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108080" y="661032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108080" y="708156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1ED18424-7677-4F59-812D-08BEFD138F6F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404" name=""/>
          <p:cNvSpPr/>
          <p:nvPr/>
        </p:nvSpPr>
        <p:spPr>
          <a:xfrm>
            <a:off x="1244520" y="7346880"/>
            <a:ext cx="7035840" cy="69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31760" tIns="0" bIns="6588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 is child’s play thanks to the attractive accessories, also excellent ARPU-driv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108080" y="6610320"/>
            <a:ext cx="3820680" cy="504000"/>
            <a:chOff x="1108080" y="6610320"/>
            <a:chExt cx="3820680" cy="504000"/>
          </a:xfrm>
        </p:grpSpPr>
        <p:sp>
          <p:nvSpPr>
            <p:cNvPr id="406" name=""/>
            <p:cNvSpPr/>
            <p:nvPr/>
          </p:nvSpPr>
          <p:spPr>
            <a:xfrm>
              <a:off x="1108080" y="6610320"/>
              <a:ext cx="38206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31400" tIns="0" bIns="65520" anchor="t">
              <a:spAutoFit/>
            </a:bodyPr>
            <a:p>
              <a:pPr algn="ctr">
                <a:lnSpc>
                  <a:spcPts val="3450"/>
                </a:lnSpc>
                <a:spcBef>
                  <a:spcPts val="1437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108080" y="661032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108080" y="708156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4DAA038F-28A0-4B07-87D9-46C216466E8E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77760" y="7335360"/>
            <a:ext cx="7817040" cy="6432840"/>
          </a:xfrm>
          <a:prstGeom prst="rect">
            <a:avLst/>
          </a:prstGeom>
          <a:noFill/>
          <a:ln w="0">
            <a:noFill/>
          </a:ln>
        </p:spPr>
        <p:txBody>
          <a:bodyPr lIns="132840" rIns="132840" tIns="66240" bIns="66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ra is our best-value device with integrated camera and full feature set supporting the photography option includ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igh resolution display: 65k colours, 130x130 pixel, up to 7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F camera: 352x288 pixel display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1108080" y="6610320"/>
            <a:ext cx="3820680" cy="504000"/>
            <a:chOff x="1108080" y="6610320"/>
            <a:chExt cx="3820680" cy="504000"/>
          </a:xfrm>
        </p:grpSpPr>
        <p:sp>
          <p:nvSpPr>
            <p:cNvPr id="365" name=""/>
            <p:cNvSpPr/>
            <p:nvPr/>
          </p:nvSpPr>
          <p:spPr>
            <a:xfrm>
              <a:off x="1108080" y="6610320"/>
              <a:ext cx="38206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31400" tIns="0" bIns="65520" anchor="t">
              <a:spAutoFit/>
            </a:bodyPr>
            <a:p>
              <a:pPr algn="ctr">
                <a:lnSpc>
                  <a:spcPts val="3450"/>
                </a:lnSpc>
                <a:spcBef>
                  <a:spcPts val="1437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108080" y="661032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108080" y="708156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9AE7B553-0E3B-4274-83F7-635EEE9C2724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77760" y="7361280"/>
            <a:ext cx="7817040" cy="6432480"/>
          </a:xfrm>
          <a:prstGeom prst="rect">
            <a:avLst/>
          </a:prstGeom>
          <a:noFill/>
          <a:ln w="0">
            <a:noFill/>
          </a:ln>
        </p:spPr>
        <p:txBody>
          <a:bodyPr lIns="132840" rIns="132840" tIns="66240" bIns="66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F camera: 352x288 pixel resol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1108080" y="6610320"/>
            <a:ext cx="3820680" cy="504000"/>
            <a:chOff x="1108080" y="6610320"/>
            <a:chExt cx="3820680" cy="504000"/>
          </a:xfrm>
        </p:grpSpPr>
        <p:sp>
          <p:nvSpPr>
            <p:cNvPr id="374" name=""/>
            <p:cNvSpPr/>
            <p:nvPr/>
          </p:nvSpPr>
          <p:spPr>
            <a:xfrm>
              <a:off x="1108080" y="6610320"/>
              <a:ext cx="382068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31400" tIns="0" bIns="65520" anchor="t">
              <a:spAutoFit/>
            </a:bodyPr>
            <a:p>
              <a:pPr algn="ctr">
                <a:lnSpc>
                  <a:spcPts val="3450"/>
                </a:lnSpc>
                <a:spcBef>
                  <a:spcPts val="1437"/>
                </a:spcBef>
                <a:tabLst>
                  <a:tab algn="l" pos="0"/>
                  <a:tab algn="l" pos="1312920"/>
                  <a:tab algn="l" pos="2625840"/>
                  <a:tab algn="l" pos="3938760"/>
                  <a:tab algn="l" pos="5251320"/>
                  <a:tab algn="l" pos="6564240"/>
                  <a:tab algn="l" pos="7877160"/>
                  <a:tab algn="l" pos="9190080"/>
                  <a:tab algn="l" pos="10503000"/>
                </a:tabLst>
              </a:pPr>
              <a:r>
                <a:rPr b="0" lang="en-US" sz="23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108080" y="661032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08080" y="7081560"/>
              <a:ext cx="3711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5535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fld id="{D6B05B68-3050-45B6-9CE7-6B80AF4F886E}" type="slidenum"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-360" y="1357920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535360" y="-360"/>
            <a:ext cx="4235400" cy="716040"/>
          </a:xfrm>
          <a:prstGeom prst="rect">
            <a:avLst/>
          </a:prstGeom>
          <a:noFill/>
          <a:ln w="0">
            <a:noFill/>
          </a:ln>
        </p:spPr>
        <p:txBody>
          <a:bodyPr lIns="262440" rIns="262440" tIns="66600" bIns="666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1333440"/>
                <a:tab algn="l" pos="2666880"/>
                <a:tab algn="l" pos="4000680"/>
                <a:tab algn="l" pos="5334120"/>
                <a:tab algn="l" pos="6667560"/>
                <a:tab algn="l" pos="8001000"/>
                <a:tab algn="l" pos="9334440"/>
                <a:tab algn="l" pos="10667880"/>
              </a:tabLst>
            </a:pPr>
            <a:r>
              <a:rPr b="0" lang="de-DE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312920" y="1073160"/>
            <a:ext cx="7145280" cy="53593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977760" y="6789240"/>
            <a:ext cx="7817040" cy="643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49948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98600" y="99036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49948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998600" y="3895920"/>
            <a:ext cx="237996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787560" y="389592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787560" y="990360"/>
            <a:ext cx="360684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0" y="3895920"/>
            <a:ext cx="7391520" cy="265320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0" y="990360"/>
            <a:ext cx="7391520" cy="556236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288000" bIns="1080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4400">
              <a:spcBef>
                <a:spcPts val="7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479520" indent="-192240">
              <a:spcBef>
                <a:spcPts val="799"/>
              </a:spcBef>
              <a:buClr>
                <a:srgbClr val="336699"/>
              </a:buClr>
              <a:buFont typeface="Wingdings" charset="2"/>
              <a:buChar char="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666720" indent="-185760"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39400">
              <a:spcBef>
                <a:spcPts val="799"/>
              </a:spcBef>
              <a:buClr>
                <a:srgbClr val="002b5d"/>
              </a:buClr>
              <a:buFont typeface="Arial"/>
              <a:buChar char="»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39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39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0" y="655272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lIns="144000" rIns="108000" tIns="36000" bIns="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ICM MP CCQ SLI                                                                  Seite </a:t>
            </a:r>
            <a:fld id="{49D248A0-F6FD-461A-97B9-E5AA2C82F35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 rot="9600">
            <a:off x="5562360" y="6550200"/>
            <a:ext cx="18223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44000" tIns="36000" bIns="0" anchor="ctr">
            <a:no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©  Siemens,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391520" y="0"/>
            <a:ext cx="1752480" cy="99216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ababa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19240" y="152280"/>
            <a:ext cx="70070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0480" rIns="60480" tIns="31680" bIns="3168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1054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  <a:tab algn="l" pos="105012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5867280" cy="164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5657760" y="1143000"/>
            <a:ext cx="3200400" cy="9907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76280" indent="0" algn="ctr">
              <a:spcBef>
                <a:spcPts val="799"/>
              </a:spcBef>
              <a:spcAft>
                <a:spcPts val="400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287280" algn="ctr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Font typeface="Wingdings" charset="2"/>
              <a:buChar char="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480960" algn="ctr">
              <a:lnSpc>
                <a:spcPts val="2200"/>
              </a:lnSpc>
              <a:spcAft>
                <a:spcPts val="400"/>
              </a:spcAft>
              <a:buClr>
                <a:srgbClr val="000000"/>
              </a:buClr>
              <a:buFont typeface="Arial"/>
              <a:buChar char="-"/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87480" algn="ctr">
              <a:lnSpc>
                <a:spcPts val="2200"/>
              </a:lnSpc>
              <a:spcAft>
                <a:spcPts val="400"/>
              </a:spcAft>
              <a:buClr>
                <a:srgbClr val="002b5d"/>
              </a:buClr>
              <a:buFont typeface="Arial"/>
              <a:buChar char="»"/>
              <a:tabLst>
                <a:tab algn="l" pos="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5" marL="1828800" indent="874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  <a:p>
            <a:pPr lvl="6" marL="1828800" indent="8748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b5d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2b5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5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gif"/><Relationship Id="rId7" Type="http://schemas.openxmlformats.org/officeDocument/2006/relationships/image" Target="../media/image24.gif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7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30.png"/><Relationship Id="rId8" Type="http://schemas.openxmlformats.org/officeDocument/2006/relationships/image" Target="../media/image31.png"/><Relationship Id="rId9" Type="http://schemas.openxmlformats.org/officeDocument/2006/relationships/image" Target="../media/image32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png"/><Relationship Id="rId8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0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1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42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43.png"/><Relationship Id="rId18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45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46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47.png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48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49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50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51.png"/><Relationship Id="rId18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.xml"/><Relationship Id="rId3" Type="http://schemas.openxmlformats.org/officeDocument/2006/relationships/slide" Target="slide5.xml"/><Relationship Id="rId4" Type="http://schemas.openxmlformats.org/officeDocument/2006/relationships/slide" Target="slide10.xml"/><Relationship Id="rId5" Type="http://schemas.openxmlformats.org/officeDocument/2006/relationships/slide" Target=""/><Relationship Id="rId6" Type="http://schemas.openxmlformats.org/officeDocument/2006/relationships/slide" Target="slide19.xml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" Target="slide2.xml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574560" y="2708280"/>
            <a:ext cx="4284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Product details and Inform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355680" y="6469200"/>
            <a:ext cx="75182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ICM MP CCQ SLI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      June 200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95800" y="6068880"/>
            <a:ext cx="1374840" cy="69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atthias Wilti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hristoph Bö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1268280"/>
            <a:ext cx="4103640" cy="73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000000"/>
                </a:solidFill>
                <a:latin typeface="Arial"/>
              </a:rPr>
              <a:t>C65 </a:t>
            </a:r>
            <a:r>
              <a:rPr b="1" lang="de-DE" sz="4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964040" y="2637000"/>
            <a:ext cx="1768680" cy="3536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24000" y="1125360"/>
            <a:ext cx="5543280" cy="527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in Fe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xed small housing with Lumberg conn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otating flash-tube for monoblock, slider and clamshell ph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ug and 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85000"/>
              </a:lnSpc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ant cha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85000"/>
              </a:lnSpc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-by during conn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85000"/>
              </a:lnSpc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omatic expo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lnSpc>
                <a:spcPct val="85000"/>
              </a:lnSpc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omatic rechar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lash with variable ang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lligent 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fessional tube technology (instead of L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action with phone display (e.g., statu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rox. 0.2% battery capacity will be used for one sho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-Eye 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undesirable "vampire eye" effec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osure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overexpos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lnSpc>
                <a:spcPct val="85000"/>
              </a:lnSpc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itted flashlight intensity controlled by sens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867280" y="1425600"/>
            <a:ext cx="1806480" cy="4811760"/>
            <a:chOff x="5867280" y="1425600"/>
            <a:chExt cx="1806480" cy="4811760"/>
          </a:xfrm>
        </p:grpSpPr>
        <p:graphicFrame>
          <p:nvGraphicFramePr>
            <p:cNvPr id="227" name=""/>
            <p:cNvGraphicFramePr/>
            <p:nvPr/>
          </p:nvGraphicFramePr>
          <p:xfrm>
            <a:off x="5914800" y="4775040"/>
            <a:ext cx="1694160" cy="14623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22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914800" y="4775040"/>
                      <a:ext cx="1694160" cy="14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29" name="" descr=""/>
            <p:cNvPicPr/>
            <p:nvPr/>
          </p:nvPicPr>
          <p:blipFill>
            <a:blip r:embed="rId4"/>
            <a:srcRect l="0" t="0" r="0" b="894"/>
            <a:stretch/>
          </p:blipFill>
          <p:spPr>
            <a:xfrm>
              <a:off x="5867280" y="1425600"/>
              <a:ext cx="1806480" cy="3578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0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Attachable Flash – IFL 6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02320" y="333360"/>
            <a:ext cx="1630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5"/>
          <a:stretch/>
        </p:blipFill>
        <p:spPr>
          <a:xfrm>
            <a:off x="4211640" y="4724280"/>
            <a:ext cx="1584360" cy="151128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6"/>
          <a:stretch/>
        </p:blipFill>
        <p:spPr>
          <a:xfrm>
            <a:off x="4456080" y="2190600"/>
            <a:ext cx="907920" cy="63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24000" y="1125360"/>
            <a:ext cx="6480000" cy="41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per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timal adaptation and orientation in the car due to adjustment o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 rotational ax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ixation of your mobile 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act housing with roll-up mechanism for the microphone c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lexible microphone positioning in the vehic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omatic call acceptance (if activat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olume control via the mobile 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cho compensation and noise redu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wer supply and fast-charge function for the mobile 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ermanent display illum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ast and simple installation requiring no tools or installation material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lows you to swap the Car Kit easily between different cars (about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20 cars were tested, Car Kit Easy is compatible for 90% of leading European car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6804000" y="3895560"/>
            <a:ext cx="2089080" cy="1909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300720" y="1700280"/>
          <a:ext cx="2087640" cy="186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00720" y="1700280"/>
                    <a:ext cx="2087640" cy="186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– Car Kit Eas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602320" y="333360"/>
            <a:ext cx="1630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24000" y="1125360"/>
            <a:ext cx="5256000" cy="49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dset with a high-value design for mobile handsfree us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offers an optimised wearing comfort by holder and earpiece hinge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ake it easy – fixed small housing to connect phone and head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allows charging and phoning at the same time!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r Kit Comf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r Kit Comfort for C65 will be equipped with a PTT cra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is increases the value of Car Kit Comfort by additional functions and more comfort (e.g., PTT, volume)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yncS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349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 up to date – link your mobile phone to a PC with the Data Cable USB and synchronise your data or transfer multimedia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2"/>
          <a:srcRect l="4960" t="0" r="4268" b="0"/>
          <a:stretch/>
        </p:blipFill>
        <p:spPr>
          <a:xfrm>
            <a:off x="5535720" y="1592280"/>
            <a:ext cx="1773000" cy="45007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Original Access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602320" y="333360"/>
            <a:ext cx="1630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3152880" y="4896000"/>
            <a:ext cx="1135080" cy="148572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4873680" y="4869000"/>
            <a:ext cx="1138320" cy="1484280"/>
          </a:xfrm>
          <a:prstGeom prst="rect">
            <a:avLst/>
          </a:prstGeom>
          <a:ln w="0">
            <a:noFill/>
          </a:ln>
        </p:spPr>
      </p:pic>
      <p:pic>
        <p:nvPicPr>
          <p:cNvPr id="249" name="" descr=""/>
          <p:cNvPicPr/>
          <p:nvPr/>
        </p:nvPicPr>
        <p:blipFill>
          <a:blip r:embed="rId4"/>
          <a:stretch/>
        </p:blipFill>
        <p:spPr>
          <a:xfrm>
            <a:off x="4876920" y="3238560"/>
            <a:ext cx="1135080" cy="148572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5"/>
          <a:stretch/>
        </p:blipFill>
        <p:spPr>
          <a:xfrm>
            <a:off x="3146400" y="3240000"/>
            <a:ext cx="1138320" cy="148428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6"/>
          <a:stretch/>
        </p:blipFill>
        <p:spPr>
          <a:xfrm>
            <a:off x="1547640" y="3240000"/>
            <a:ext cx="1138320" cy="148428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7"/>
          <a:stretch/>
        </p:blipFill>
        <p:spPr>
          <a:xfrm>
            <a:off x="1547640" y="4896000"/>
            <a:ext cx="1136880" cy="14857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324000" y="1125360"/>
            <a:ext cx="6298920" cy="20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oduct 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 new "Themes" concept allows to change the look and feel of the phone with just one click. Five pre-defined themes will be pre-installed and more can be easily down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ogos, pictures, animations and polyphonic ringtones will help the user personalise his phone and help him create colourful and personal MMS mess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Them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316480" y="333360"/>
            <a:ext cx="1919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– Chat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24000" y="1125360"/>
            <a:ext cx="2828880" cy="12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pplication Sto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Technolog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sed on Jav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earer: GP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"/>
          <p:cNvGraphicFramePr/>
          <p:nvPr/>
        </p:nvGraphicFramePr>
        <p:xfrm>
          <a:off x="539640" y="3573360"/>
          <a:ext cx="2235240" cy="25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9640" y="3573360"/>
                    <a:ext cx="2235240" cy="25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"/>
          <p:cNvSpPr/>
          <p:nvPr/>
        </p:nvSpPr>
        <p:spPr>
          <a:xfrm>
            <a:off x="3419640" y="1125360"/>
            <a:ext cx="3836880" cy="33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ey Featur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ant Mess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oup ch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erts &amp; message no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ultiple conversation in parall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pplication start via address book sup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utomatic WAP push mechani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16480" y="333360"/>
            <a:ext cx="1919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2133720"/>
            <a:ext cx="3836880" cy="145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mportan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ependent on provi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ts val="2200"/>
              </a:lnSpc>
              <a:spcAft>
                <a:spcPts val="400"/>
              </a:spcAft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k provider for special information regarding settin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4"/>
          <a:stretch/>
        </p:blipFill>
        <p:spPr>
          <a:xfrm>
            <a:off x="7642080" y="4365720"/>
            <a:ext cx="1177920" cy="1584360"/>
          </a:xfrm>
          <a:prstGeom prst="rect">
            <a:avLst/>
          </a:prstGeom>
          <a:ln w="9360">
            <a:solidFill>
              <a:srgbClr val="6699cc"/>
            </a:solidFill>
            <a:miter/>
          </a:ln>
        </p:spPr>
      </p:pic>
      <p:sp>
        <p:nvSpPr>
          <p:cNvPr id="266" name=""/>
          <p:cNvSpPr/>
          <p:nvPr/>
        </p:nvSpPr>
        <p:spPr>
          <a:xfrm>
            <a:off x="2987640" y="4162320"/>
            <a:ext cx="446580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stant Messaging Cli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(Wireless Village 1.1 standar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– Foto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000" y="1125360"/>
            <a:ext cx="5184720" cy="294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pplication S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 addition to basic functions the new Photo Editor offers more advanced features and  add-on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Zoom, rotate, flip h/v, mirror, brightness, contrast, resize, cut, crop / clip, pa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itional filter effects like sepia, greyscal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ste of additional objects like text, borders / frames, graphic objec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pecial effects like morp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5796000" y="1197000"/>
            <a:ext cx="1582200" cy="3168360"/>
            <a:chOff x="5796000" y="1197000"/>
            <a:chExt cx="1582200" cy="3168360"/>
          </a:xfrm>
        </p:grpSpPr>
        <p:pic>
          <p:nvPicPr>
            <p:cNvPr id="270" name="" descr=""/>
            <p:cNvPicPr/>
            <p:nvPr/>
          </p:nvPicPr>
          <p:blipFill>
            <a:blip r:embed="rId2"/>
            <a:stretch/>
          </p:blipFill>
          <p:spPr>
            <a:xfrm>
              <a:off x="5796000" y="1197000"/>
              <a:ext cx="1582200" cy="3168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1" name="" descr=""/>
            <p:cNvPicPr/>
            <p:nvPr/>
          </p:nvPicPr>
          <p:blipFill>
            <a:blip r:embed="rId3">
              <a:lum bright="20000"/>
            </a:blip>
            <a:srcRect l="0" t="2125" r="0" b="24473"/>
            <a:stretch/>
          </p:blipFill>
          <p:spPr>
            <a:xfrm>
              <a:off x="6160320" y="1982880"/>
              <a:ext cx="845640" cy="83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2" name="" descr=""/>
          <p:cNvPicPr/>
          <p:nvPr/>
        </p:nvPicPr>
        <p:blipFill>
          <a:blip r:embed="rId4">
            <a:lum bright="20000"/>
          </a:blip>
          <a:stretch/>
        </p:blipFill>
        <p:spPr>
          <a:xfrm>
            <a:off x="1693800" y="5103720"/>
            <a:ext cx="701640" cy="85104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1042920" y="5103720"/>
            <a:ext cx="725400" cy="851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4" name=""/>
          <p:cNvGraphicFramePr/>
          <p:nvPr/>
        </p:nvGraphicFramePr>
        <p:xfrm>
          <a:off x="2386080" y="5103720"/>
          <a:ext cx="681120" cy="8510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386080" y="5103720"/>
                    <a:ext cx="681120" cy="85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"/>
          <p:cNvSpPr/>
          <p:nvPr/>
        </p:nvSpPr>
        <p:spPr>
          <a:xfrm>
            <a:off x="5316480" y="333360"/>
            <a:ext cx="1919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8"/>
          <a:srcRect l="18321" t="0" r="0" b="0"/>
          <a:stretch/>
        </p:blipFill>
        <p:spPr>
          <a:xfrm>
            <a:off x="4788000" y="4349880"/>
            <a:ext cx="1071360" cy="133668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9"/>
          <a:srcRect l="19810" t="0" r="0" b="0"/>
          <a:stretch/>
        </p:blipFill>
        <p:spPr>
          <a:xfrm>
            <a:off x="5581800" y="4991040"/>
            <a:ext cx="1095120" cy="1390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716040" y="2217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mall f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118680" y="2205000"/>
            <a:ext cx="101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normal f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472720" y="2205000"/>
            <a:ext cx="96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jumbo fo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002200" y="2637000"/>
          <a:ext cx="2233800" cy="223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002200" y="2637000"/>
                    <a:ext cx="223380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2625840" y="2637000"/>
          <a:ext cx="2233440" cy="2233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625840" y="2637000"/>
                    <a:ext cx="223344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250920" y="2637000"/>
          <a:ext cx="2233440" cy="22334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0920" y="2637000"/>
                    <a:ext cx="2233440" cy="223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2694240" y="150804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Text editor / vie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26028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Overvi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150160" y="341280"/>
            <a:ext cx="2123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39040" y="1176480"/>
            <a:ext cx="3894480" cy="50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 theme consists of the following resource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ki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r scheme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 background pictu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dle and menu background pictur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Idle Wallpap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eferred book ring to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creensav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witch-on melod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witch-off melod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witch-on ani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witch-off ani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et-search ani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in-input ani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Wait animation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Not changeable via the settings menu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6229440" y="1260360"/>
          <a:ext cx="1073160" cy="107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229440" y="126036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027760" y="1260360"/>
          <a:ext cx="1073160" cy="107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27760" y="126036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5035680" y="2413080"/>
          <a:ext cx="1073160" cy="1073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035680" y="241308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0" name=""/>
          <p:cNvGraphicFramePr/>
          <p:nvPr/>
        </p:nvGraphicFramePr>
        <p:xfrm>
          <a:off x="6238800" y="4761000"/>
          <a:ext cx="1073160" cy="10731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238800" y="476100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6242040" y="3586320"/>
          <a:ext cx="1073160" cy="10731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242040" y="358632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6234120" y="2417760"/>
          <a:ext cx="1073160" cy="107316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234120" y="241776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5024520" y="4772160"/>
          <a:ext cx="1073160" cy="10731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024520" y="477216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5035680" y="3591000"/>
          <a:ext cx="1073160" cy="10731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5035680" y="3591000"/>
                    <a:ext cx="1073160" cy="107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250920" y="26028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The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150160" y="341280"/>
            <a:ext cx="2123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3" name=""/>
          <p:cNvGraphicFramePr/>
          <p:nvPr/>
        </p:nvGraphicFramePr>
        <p:xfrm>
          <a:off x="85680" y="4803840"/>
          <a:ext cx="2540160" cy="1650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5680" y="4803840"/>
                    <a:ext cx="25401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4935600" y="1674720"/>
            <a:ext cx="16286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ackgroun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art of each skin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906800" y="3379680"/>
            <a:ext cx="1909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xt, Icons and Lay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ame for all ski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010120" y="5276880"/>
            <a:ext cx="18162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lor sche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part of color ski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8" name=""/>
          <p:cNvGraphicFramePr/>
          <p:nvPr/>
        </p:nvGraphicFramePr>
        <p:xfrm>
          <a:off x="744480" y="1236600"/>
          <a:ext cx="1486080" cy="1486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44480" y="1236600"/>
                    <a:ext cx="148608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495520" y="1236600"/>
          <a:ext cx="1486080" cy="1486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495520" y="1236600"/>
                    <a:ext cx="148608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2" name=""/>
          <p:cNvGraphicFramePr/>
          <p:nvPr/>
        </p:nvGraphicFramePr>
        <p:xfrm>
          <a:off x="1542960" y="2863800"/>
          <a:ext cx="1650960" cy="1650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542960" y="2863800"/>
                    <a:ext cx="16509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7435800" y="1638360"/>
          <a:ext cx="1650960" cy="16509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435800" y="1638360"/>
                    <a:ext cx="16509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 flipH="1">
            <a:off x="1614240" y="5567400"/>
            <a:ext cx="609480" cy="21420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1199880" y="5324400"/>
            <a:ext cx="966600" cy="26676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 flipV="1">
            <a:off x="1481040" y="4914720"/>
            <a:ext cx="719280" cy="16668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671040" y="5843160"/>
            <a:ext cx="1490760" cy="319320"/>
          </a:xfrm>
          <a:prstGeom prst="line">
            <a:avLst/>
          </a:prstGeom>
          <a:ln w="9360">
            <a:solidFill>
              <a:srgbClr val="3366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 flipV="1">
            <a:off x="1218960" y="5810040"/>
            <a:ext cx="928440" cy="104760"/>
          </a:xfrm>
          <a:prstGeom prst="line">
            <a:avLst/>
          </a:prstGeom>
          <a:ln w="9360">
            <a:solidFill>
              <a:srgbClr val="ff82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540160" y="4775040"/>
          <a:ext cx="2539800" cy="1651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540160" y="4775040"/>
                    <a:ext cx="2539800" cy="165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 flipH="1" flipV="1">
            <a:off x="3914280" y="4876560"/>
            <a:ext cx="7239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3400200" y="5267160"/>
            <a:ext cx="11998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H="1">
            <a:off x="4105080" y="5629320"/>
            <a:ext cx="52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-46800" bIns="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flipH="1" flipV="1">
            <a:off x="3666960" y="5762520"/>
            <a:ext cx="943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 flipV="1">
            <a:off x="3161880" y="5829120"/>
            <a:ext cx="1514520" cy="31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8" name=""/>
          <p:cNvGraphicFramePr/>
          <p:nvPr/>
        </p:nvGraphicFramePr>
        <p:xfrm>
          <a:off x="7445520" y="3727440"/>
          <a:ext cx="1650960" cy="16509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445520" y="3727440"/>
                    <a:ext cx="1650960" cy="165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7483320" y="1660680"/>
          <a:ext cx="177840" cy="16488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483320" y="1660680"/>
                    <a:ext cx="177840" cy="16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 flipH="1" flipV="1">
            <a:off x="1285920" y="2485800"/>
            <a:ext cx="162000" cy="780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3209760" y="2457000"/>
            <a:ext cx="257400" cy="84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51800" y="3138480"/>
            <a:ext cx="58104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      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50920" y="26028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Color sk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150160" y="341280"/>
            <a:ext cx="21236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146160" y="1117440"/>
            <a:ext cx="73008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tabLst>
                <a:tab algn="l" pos="0"/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Unit for EM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tabLst>
                <a:tab algn="l" pos="0"/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andard packag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phone mounting fr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Pit Cover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eypad + joystick c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ttery Pack Li-Ion 600 mAh, battery co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charger (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POWER SUPPLY/L55-R65/Eur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ual (German/English, Italian, Frenc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6699"/>
              </a:buClr>
              <a:buSzPct val="80000"/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ndard box/inlay C65/AC-LEPORELLO 1 (eng./germ./french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ff8200"/>
              </a:buClr>
              <a:buFont typeface="Wingdings" charset="2"/>
              <a:buChar char="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dicated operator package: tb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unit for NA/LAM tb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buClr>
                <a:srgbClr val="336699"/>
              </a:buClr>
              <a:buFont typeface="Wingdings" charset="2"/>
              <a:buChar char=""/>
              <a:tabLst>
                <a:tab algn="l" pos="2089080"/>
                <a:tab algn="l" pos="22892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y unit for APAC tb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50920" y="26028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Content of 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77080" y="341280"/>
            <a:ext cx="217404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>
            <a:hlinkClick r:id="rId2" action="ppaction://hlinksldjump"/>
          </p:cNvPr>
          <p:cNvSpPr/>
          <p:nvPr/>
        </p:nvSpPr>
        <p:spPr>
          <a:xfrm>
            <a:off x="250920" y="184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3" action="ppaction://hlinksldjump"/>
          </p:cNvPr>
          <p:cNvSpPr/>
          <p:nvPr/>
        </p:nvSpPr>
        <p:spPr>
          <a:xfrm>
            <a:off x="252360" y="328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feat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>
            <a:hlinkClick r:id="rId4" action="ppaction://hlinksldjump"/>
          </p:cNvPr>
          <p:cNvSpPr/>
          <p:nvPr/>
        </p:nvSpPr>
        <p:spPr>
          <a:xfrm>
            <a:off x="252360" y="479736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45080" y="184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>
            <a:hlinkClick r:id="rId5" action="ppaction://hlinksldjump"/>
          </p:cNvPr>
          <p:cNvSpPr/>
          <p:nvPr/>
        </p:nvSpPr>
        <p:spPr>
          <a:xfrm>
            <a:off x="4645080" y="328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>
            <a:hlinkClick r:id="rId6" action="ppaction://hlinksldjump"/>
          </p:cNvPr>
          <p:cNvSpPr/>
          <p:nvPr/>
        </p:nvSpPr>
        <p:spPr>
          <a:xfrm>
            <a:off x="4645080" y="479736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– Con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7"/>
          <a:stretch/>
        </p:blipFill>
        <p:spPr>
          <a:xfrm>
            <a:off x="2627280" y="1484280"/>
            <a:ext cx="2171880" cy="434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250920" y="26028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65   …what a customer might complain abou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35080" y="1197000"/>
            <a:ext cx="7145280" cy="50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spAutoFit/>
          </a:bodyPr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th the current software version 1 it is not possible to use 2 of the 4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installed games. The device will switch off and has to be reboo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 update process for the C65 is under evaluation and we will keep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inform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ta list regarding software versions will be provided as soon 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ossible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 might happen that the device freezes sporadically when us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imations as screensaver </a:t>
            </a:r>
            <a:r>
              <a:rPr b="1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Remove the batte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 need a key for removing the Clipit cover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not it is possible to damage the silver Inlay!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attery cover and the battery have to be removed 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hange cov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moving the SIM card might be very difficult when you d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t lift the card a little bit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battery cover can only be opened with a lot of  troub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buClr>
                <a:srgbClr val="99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you scroll through the menu some time delay might occu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"/>
          <p:cNvGrpSpPr/>
          <p:nvPr/>
        </p:nvGrpSpPr>
        <p:grpSpPr>
          <a:xfrm>
            <a:off x="6300720" y="3716280"/>
            <a:ext cx="1224000" cy="2736720"/>
            <a:chOff x="6300720" y="3716280"/>
            <a:chExt cx="1224000" cy="2736720"/>
          </a:xfrm>
        </p:grpSpPr>
        <p:pic>
          <p:nvPicPr>
            <p:cNvPr id="355" name="" descr=""/>
            <p:cNvPicPr/>
            <p:nvPr/>
          </p:nvPicPr>
          <p:blipFill>
            <a:blip r:embed="rId2"/>
            <a:stretch/>
          </p:blipFill>
          <p:spPr>
            <a:xfrm>
              <a:off x="6300720" y="3716280"/>
              <a:ext cx="1224000" cy="2736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6" name="" descr=""/>
            <p:cNvPicPr/>
            <p:nvPr/>
          </p:nvPicPr>
          <p:blipFill>
            <a:blip r:embed="rId3">
              <a:lum bright="20000"/>
            </a:blip>
            <a:srcRect l="0" t="2125" r="0" b="24473"/>
            <a:stretch/>
          </p:blipFill>
          <p:spPr>
            <a:xfrm>
              <a:off x="6582240" y="4395240"/>
              <a:ext cx="654120" cy="72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7" name=""/>
          <p:cNvSpPr/>
          <p:nvPr/>
        </p:nvSpPr>
        <p:spPr>
          <a:xfrm flipV="1">
            <a:off x="4932360" y="3789360"/>
            <a:ext cx="1800360" cy="287280"/>
          </a:xfrm>
          <a:prstGeom prst="line">
            <a:avLst/>
          </a:prstGeom>
          <a:ln w="25560">
            <a:solidFill>
              <a:srgbClr val="990033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0" rIns="90000" tIns="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1484280"/>
            <a:ext cx="63468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ank you for your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tention!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lease do not forget to give feedback 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f there are further questions after the training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ease just contact Matthias or Christoph!!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We keep you informed about news and changes!</a:t>
            </a:r>
            <a:br>
              <a:rPr sz="1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85720" y="4048560"/>
            <a:ext cx="4334040" cy="18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MS Releas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grated CIF cam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High-Resolution 65k Colour 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ttractive Themes &amp;                                   convenient  Download Assista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fferent silent alert the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50920" y="1522440"/>
            <a:ext cx="1530360" cy="1944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878280" y="1533600"/>
            <a:ext cx="1614600" cy="1941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2050920" y="1533600"/>
            <a:ext cx="1609920" cy="19350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5"/>
          <a:stretch/>
        </p:blipFill>
        <p:spPr>
          <a:xfrm>
            <a:off x="5767560" y="1555920"/>
            <a:ext cx="1530000" cy="194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125960" y="4051800"/>
            <a:ext cx="4333680" cy="19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Java MIDP 2.0 / CLDC 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GRPS Class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AP 2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RM content distrib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rDA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700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650920" y="333360"/>
            <a:ext cx="1581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556000" y="1368360"/>
            <a:ext cx="2187360" cy="4373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81080" y="1947960"/>
            <a:ext cx="30225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rendy, fashionable,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rgonomic, monoblo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280" y="4344840"/>
            <a:ext cx="302256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ownload Assista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stant Messen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003640" y="4890960"/>
            <a:ext cx="278316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LIPit Covers Premi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ttachable Flas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r Kit Ea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62000" y="1393920"/>
            <a:ext cx="2035080" cy="49356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1840" y="1484280"/>
            <a:ext cx="63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2000" y="3789360"/>
            <a:ext cx="2035080" cy="49356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00" y="3905280"/>
            <a:ext cx="1098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03640" y="1393920"/>
            <a:ext cx="2035440" cy="49356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507280" y="1484280"/>
            <a:ext cx="105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03640" y="4335480"/>
            <a:ext cx="2035440" cy="493560"/>
          </a:xfrm>
          <a:prstGeom prst="rect">
            <a:avLst/>
          </a:prstGeom>
          <a:solidFill>
            <a:srgbClr val="66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03640" y="1947960"/>
            <a:ext cx="30229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Integrated CIF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buClr>
                <a:srgbClr val="3366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Display: 130 x 130 pixel,</a:t>
            </a:r>
            <a:br>
              <a:rPr sz="1600"/>
            </a:b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65k col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59880" y="4451400"/>
            <a:ext cx="1719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ccessory De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650920" y="333360"/>
            <a:ext cx="15811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003640" y="2895480"/>
            <a:ext cx="819360" cy="103824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6013440" y="2978280"/>
            <a:ext cx="1295280" cy="8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etting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amera mo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125360"/>
            <a:ext cx="3889440" cy="25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ansmission mo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-GSM (GSM Phase 2/Phase 2+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PRS Multislot class 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iple band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MEA: 900/1800/1900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AFTA: 850/1800/1900 M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coders: FR, HR, EFR, AM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3500280"/>
            <a:ext cx="365760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peration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by/talk ti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-300 h/250-300 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arging ti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2h for 10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one applic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 logos: incoming, outgoing, mi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ultiple party cal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067280" y="1125360"/>
            <a:ext cx="3168720" cy="28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neral physics and desig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um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 80 ccm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z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~ 104 x 45 x 17 m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ook e.g. for neck/wrist str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hangeable par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pIt covers Clas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49360" indent="-26208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12200" y="333360"/>
            <a:ext cx="41248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technical features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>
            <a:hlinkClick r:id="rId2" action="ppaction://hlinksldjump"/>
          </p:cNvPr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924360" y="3603600"/>
            <a:ext cx="1604880" cy="142092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6012000" y="3789360"/>
            <a:ext cx="1528560" cy="1068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50920" y="1052640"/>
            <a:ext cx="3600360" cy="45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Key compon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pla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130 x 130 pixel, 65k colour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.3 x 27.3 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ed CIF camera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ed anten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attery: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-Ion 600 mA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M plug-in (3V/1,8V), SAT class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coustic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ndsfree speak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splay backlight: wh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avigation: 5-way joyst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ey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nd/end, 2 soft keys, 12-key p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lent al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995640" y="1052640"/>
            <a:ext cx="3529080" cy="42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raphical user interface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p to 7 lin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dividual selectable UI / the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figurable UI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perator specific menu tre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lp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edictive text input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9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fferent font siz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ard, jumbo, application 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ant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rnational, APAC, NAF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r vari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057480" y="333360"/>
            <a:ext cx="421020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technical features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2" action="ppaction://hlinksldjump"/>
          </p:cNvPr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8040" y="1125360"/>
            <a:ext cx="3729240" cy="47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ersonal Information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ddress book: 250 e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endar aler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-do 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orld clock/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lculator/currenc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und recor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S, concatenated S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S to group, predefined text bloc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MS: release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munity servic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fferent Java clients to be download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140360" y="907920"/>
            <a:ext cx="3384360" cy="226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ct val="90000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IM lo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ecure transa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ital signatu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igital Rights Manag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85480" y="333360"/>
            <a:ext cx="4295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technical features I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38040" y="1185840"/>
            <a:ext cx="3729240" cy="53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Location Based Servi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av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IDP 2.0, CLDC 1.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P 2.0, WML/XHTML dual st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ject download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P, HTTP, Java, oth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mory for user dat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3 MBy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imation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cons, wait anima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und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32 chords, MIDI, WA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ocial nois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ecordable in AMR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hoto handling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lbum, ed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70400" y="1133640"/>
            <a:ext cx="2865600" cy="39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44000" rIns="108000" tIns="288000" bIns="108000" anchor="t">
            <a:spAutoFit/>
          </a:bodyPr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Access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pIt covers Class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changeable key p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hemes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ipIt covers, JAVA apps, ring tones, wallpapers, screen savers, et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ead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r K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tachable flash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nne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1998"/>
              </a:lnSpc>
              <a:spcBef>
                <a:spcPts val="176"/>
              </a:spcBef>
              <a:buClr>
                <a:srgbClr val="336699"/>
              </a:buClr>
              <a:buFont typeface="Wingdings" charset="2"/>
              <a:buChar char="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SB, RS232, Ir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15640" y="333360"/>
            <a:ext cx="432756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ailed technical features 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62000" y="1165320"/>
            <a:ext cx="146988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33880" y="1413000"/>
            <a:ext cx="7232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ash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 Car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631880" y="1165320"/>
            <a:ext cx="146844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044440" y="1527120"/>
            <a:ext cx="64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100320" y="1165320"/>
            <a:ext cx="147168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68520" y="1413000"/>
            <a:ext cx="936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andsfre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0" y="1165320"/>
            <a:ext cx="146988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887720" y="1413000"/>
            <a:ext cx="8373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41880" y="1165320"/>
            <a:ext cx="146844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84960" y="1413000"/>
            <a:ext cx="7794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-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in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512120" y="1165320"/>
            <a:ext cx="1469880" cy="78876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980840" y="1527120"/>
            <a:ext cx="53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2000" y="2097000"/>
            <a:ext cx="14698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7520" y="2184480"/>
            <a:ext cx="805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ur Cas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CT-6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31880" y="2097000"/>
            <a:ext cx="1468440" cy="57168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55640" y="2086200"/>
            <a:ext cx="14446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i-Ion Battery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600 mA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BA-67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00320" y="2097000"/>
            <a:ext cx="14716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28040" y="2184480"/>
            <a:ext cx="1427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HS-6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097000"/>
            <a:ext cx="1469880" cy="57168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24360" y="2184480"/>
            <a:ext cx="969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 Kit Easy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KP-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62000" y="2668680"/>
            <a:ext cx="1469880" cy="57132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27040" y="2756160"/>
            <a:ext cx="750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elt Cas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CL-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631880" y="2668680"/>
            <a:ext cx="1468440" cy="5713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89560" y="2756160"/>
            <a:ext cx="11620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ravel Charg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TC-500/5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00320" y="2668680"/>
            <a:ext cx="1471680" cy="5713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39720" y="2756160"/>
            <a:ext cx="997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set PT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HS-5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2668680"/>
            <a:ext cx="1469880" cy="57132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840920" y="2756160"/>
            <a:ext cx="933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pgrade Ki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KO-62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31880" y="3240000"/>
            <a:ext cx="146844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99200" y="3327480"/>
            <a:ext cx="1344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ECC-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100320" y="3240000"/>
            <a:ext cx="14716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02800" y="3327480"/>
            <a:ext cx="677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eadse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HS-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572000" y="3240000"/>
            <a:ext cx="1469880" cy="571680"/>
          </a:xfrm>
          <a:prstGeom prst="rect">
            <a:avLst/>
          </a:prstGeom>
          <a:solidFill>
            <a:srgbClr val="ffd1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699440" y="3327480"/>
            <a:ext cx="1226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ar Kit Comfort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KC-6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2000" y="3811680"/>
            <a:ext cx="1469880" cy="571320"/>
          </a:xfrm>
          <a:prstGeom prst="rect">
            <a:avLst/>
          </a:prstGeom>
          <a:solidFill>
            <a:srgbClr val="ffd1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57840" y="3899160"/>
            <a:ext cx="1079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LIPit Covers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rtn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31880" y="3811680"/>
            <a:ext cx="1468440" cy="571320"/>
          </a:xfrm>
          <a:prstGeom prst="rect">
            <a:avLst/>
          </a:prstGeom>
          <a:solidFill>
            <a:srgbClr val="66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93240" y="3997440"/>
            <a:ext cx="951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ar Charg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0" y="3811680"/>
            <a:ext cx="1469880" cy="571320"/>
          </a:xfrm>
          <a:prstGeom prst="rect">
            <a:avLst/>
          </a:prstGeom>
          <a:solidFill>
            <a:srgbClr val="ffd1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765680" y="3899160"/>
            <a:ext cx="1089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obile Holder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HMH-6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631880" y="4383000"/>
            <a:ext cx="1468440" cy="571680"/>
          </a:xfrm>
          <a:prstGeom prst="rect">
            <a:avLst/>
          </a:prstGeom>
          <a:solidFill>
            <a:srgbClr val="66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45640" y="4568760"/>
            <a:ext cx="1244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sk Top Stand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4383000"/>
            <a:ext cx="1469880" cy="571680"/>
          </a:xfrm>
          <a:prstGeom prst="rect">
            <a:avLst/>
          </a:prstGeom>
          <a:solidFill>
            <a:srgbClr val="ffd1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609440" y="4470480"/>
            <a:ext cx="1409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obile Holder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Antenna HMH-66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4954680"/>
            <a:ext cx="1469880" cy="57132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690440" y="5042160"/>
            <a:ext cx="1244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 Kit Portable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KP-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5526000"/>
            <a:ext cx="1469880" cy="57168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636800" y="5613480"/>
            <a:ext cx="1344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r Data Adapter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KO-69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81560" y="4689360"/>
            <a:ext cx="250920" cy="14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e1d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4480" y="4680000"/>
            <a:ext cx="1478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Supports Phone Sto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81560" y="4905360"/>
            <a:ext cx="250920" cy="14760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96560" y="4896000"/>
            <a:ext cx="2404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ducts compatible with 55 series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81560" y="5122800"/>
            <a:ext cx="250920" cy="14760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496560" y="5113440"/>
            <a:ext cx="2404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oducts compatible with 65 series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81560" y="5338800"/>
            <a:ext cx="250920" cy="147600"/>
          </a:xfrm>
          <a:prstGeom prst="rect">
            <a:avLst/>
          </a:prstGeom>
          <a:solidFill>
            <a:srgbClr val="ffd14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04120" y="5329440"/>
            <a:ext cx="6393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Hera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181560" y="5556240"/>
            <a:ext cx="250920" cy="147600"/>
          </a:xfrm>
          <a:prstGeom prst="rect">
            <a:avLst/>
          </a:prstGeom>
          <a:solidFill>
            <a:srgbClr val="6699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503040" y="5546880"/>
            <a:ext cx="881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00880" y="5794560"/>
            <a:ext cx="1614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62000" y="3240000"/>
            <a:ext cx="1469880" cy="571680"/>
          </a:xfrm>
          <a:prstGeom prst="rect">
            <a:avLst/>
          </a:prstGeom>
          <a:solidFill>
            <a:srgbClr val="ffd14f"/>
          </a:solidFill>
          <a:ln w="38160">
            <a:solidFill>
              <a:srgbClr val="9e1d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63960" y="3327480"/>
            <a:ext cx="10796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LIPit Covers</a:t>
            </a:r>
            <a:br>
              <a:rPr sz="1300"/>
            </a:b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mi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41880" y="2097000"/>
            <a:ext cx="1468440" cy="571680"/>
          </a:xfrm>
          <a:prstGeom prst="rect">
            <a:avLst/>
          </a:prstGeom>
          <a:solidFill>
            <a:srgbClr val="6699cc"/>
          </a:solidFill>
          <a:ln w="28440">
            <a:solidFill>
              <a:srgbClr val="9e1d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87200" y="2184480"/>
            <a:ext cx="5767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Flash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FL-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512120" y="2097000"/>
            <a:ext cx="14698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482600" y="2184480"/>
            <a:ext cx="15372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C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CA-5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12120" y="3235320"/>
            <a:ext cx="14698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7286040" y="3322800"/>
            <a:ext cx="19303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Cable US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CA-5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512120" y="3807000"/>
            <a:ext cx="1469880" cy="571320"/>
          </a:xfrm>
          <a:prstGeom prst="rect">
            <a:avLst/>
          </a:prstGeom>
          <a:solidFill>
            <a:srgbClr val="66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446600" y="3894120"/>
            <a:ext cx="16380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SyncStatio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SC-6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12120" y="2666880"/>
            <a:ext cx="1469880" cy="571680"/>
          </a:xfrm>
          <a:prstGeom prst="rect">
            <a:avLst/>
          </a:prstGeom>
          <a:solidFill>
            <a:srgbClr val="33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28760" y="2754360"/>
            <a:ext cx="1244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ata Cable USB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CA-5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65 EMEA Portfol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602320" y="333360"/>
            <a:ext cx="163008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381880" y="61722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gradFill rotWithShape="0">
            <a:gsLst>
              <a:gs pos="0">
                <a:srgbClr val="99ccff">
                  <a:alpha val="70196"/>
                </a:srgbClr>
              </a:gs>
              <a:gs pos="50000">
                <a:srgbClr val="eaeaea"/>
              </a:gs>
              <a:gs pos="100000">
                <a:srgbClr val="99ccff">
                  <a:alpha val="70196"/>
                </a:srgbClr>
              </a:gs>
            </a:gsLst>
            <a:lin ang="5400000"/>
          </a:gradFill>
          <a:ln w="648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CM MP CCQ SF           www.my-siemens.com/customercare</a:t>
            </a: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9T10:06:44Z</dcterms:created>
  <dc:creator>Markus Kaiser</dc:creator>
  <dc:description/>
  <dc:language>en-US</dc:language>
  <cp:lastModifiedBy> </cp:lastModifiedBy>
  <dcterms:modified xsi:type="dcterms:W3CDTF">2004-06-04T06:27:58Z</dcterms:modified>
  <cp:revision>531</cp:revision>
  <dc:subject/>
  <dc:title>ICM Styleguide 2-bo</dc:title>
</cp:coreProperties>
</file>